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7B6-06C9-4135-8E06-6B726912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3DC-D8D5-48B2-9E2F-540803EB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D3C-13A3-4F6A-8809-450DD0B2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BE5-A403-49DB-A082-F576E011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D37-CA63-4843-8B71-8E37D36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526-B31A-4F6E-B6D1-5150107F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157-9B52-416B-90E7-31E3F4DA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1F7-9E53-489D-AA4A-B339290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22B-EA93-4774-BA1A-0E8C275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DD8-E7C1-4588-A2C1-CED24339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9F2-3ECA-4A34-8E83-7A1C7835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1B0-E291-40C1-8814-FD3E6BD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855A-46C9-435A-87EE-16FD80DF6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anhattan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nda Fa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toria Mo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at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ust 1942- the creation of the Manhattan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1942- Construction of Bom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2, 1942- Fermi gave the order to withdraw the control r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6, 1945 at 5:30- the  Trinity Test at Alamogordo, New 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59100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4191120"/>
            <a:ext cx="136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kk.org/ct2/fatman.gi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Building the Bomb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construction didn’t start until September 1942. General Groves had to pick station to build the bombs. Also scientists to work on building. It was a long process, but in the end it was all worth it to see that World War II e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7204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4120" y="3400560"/>
            <a:ext cx="121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cs.cmu.ed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 it was M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truction  cites had two lo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kridge, Tennes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ford, Washing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924360" cy="250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867280" y="4191120"/>
            <a:ext cx="17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rootsweb.ancestry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involved to create i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scientists Enrico Fermi and Arthur Compton was building the atomic p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ur H. Comp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Moore- chief engin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Doan- Director of the Metallurgical Laborato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n Hierry- associate project dir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352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946120" y="5181480"/>
            <a:ext cx="12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3rd1000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e bomb would be used for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bomb would have been used for defeating Hitler and his army.  German surrender to the Soviets on May 8, in the year 19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68720" y="6172200"/>
            <a:ext cx="15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metaldetectingworld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the plans Change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was able to hold out for few months and was getting prepared for a desperate and bloody defense in the incident of an American attack. Atomic bombs were bombarded on Hiroshima and Nagasaki on sixth and ninth August, in the year 19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65120" y="6172200"/>
            <a:ext cx="162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midmajority.com/im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they Dropped the bomb on Hiroshima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ecided to use it on Japan who wouldn’t go down without a fight so the plane Enola Gay dropped the bomb on Hiroshima. Atomic bombs were bombarded on Hiroshima and Nagasaki on sixth and ninth August, in the year 19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1480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84600" y="6172200"/>
            <a:ext cx="22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historicalresources.files.wordpress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Bibloiograph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Kain, Mark, ed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king and Using the Atomic Bo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N.p.: Greenhavan Pres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2003. N. pag. Pri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5:06:44Z</dcterms:created>
  <dc:creator>30860</dc:creator>
  <dc:description/>
  <dc:language>en-US</dc:language>
  <cp:lastModifiedBy>30860</cp:lastModifiedBy>
  <dcterms:modified xsi:type="dcterms:W3CDTF">2009-12-16T17:58:56Z</dcterms:modified>
  <cp:revision>10</cp:revision>
  <dc:subject/>
  <dc:title>Manhattan Project</dc:title>
</cp:coreProperties>
</file>